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24D-2332-4915-94BD-5A643157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8D6-7ABC-4199-A513-C84BF5C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8CC-78FA-4022-9CDD-A6789BEE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529-1338-4460-B04E-43BB38BF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969-F55E-49CD-83E7-22BC40F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D05-F2BC-418C-8B37-F10BA8D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58A-8B78-4CCB-BAE9-1AFAA67F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4A6-E22E-421B-B0FF-9CE54E48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1F3-ED1A-43CE-9C0C-18125F7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788-A59E-40FB-85F3-D501D819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DC6-4C73-4BC0-AAF2-9287021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9BD-39CF-4DA7-ABF0-BA93F27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B7FB-F07E-4A3E-B507-9A23643D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76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ids/bases play an important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057400"/>
            <a:ext cx="6934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atteries, citric acid in fruits, antacids, household cleaners –EX: Phosphoric acid -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200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ste s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ange color (red) of an acid-base indicator—blue to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or weak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ste b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334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eel slipp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hange (blue) the color of an acid-base indicator – red to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or weak electrolytes in aqueous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henius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dude said that acids are hydrogen-containing compounds that ionize to produce hydrogen 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8195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ases, then, are compounds that ionize to produce hydroxide ions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queous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581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henius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86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istinguish acids based on the number of ionizable hydrog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4648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onoprotic = 1 ionizable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029200"/>
            <a:ext cx="624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Nitric acid (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protic = 2 ionizable hydr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371600"/>
            <a:ext cx="647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ulfuric 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riprotic = 3 ionizable hydrog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057400"/>
            <a:ext cx="632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phosphoric acid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362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compounds that contain hydrogen are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666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the hydrogen in an acid may be released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only those in very polar bond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ionizable). These hydrogens are joined in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very electronegative 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038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ose that are ionizable dissolve in water, they release the hydrogen ions because those ions are stabilized by sol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Hydrogen chloride molecule (highly 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hcl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3511440" cy="185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8640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5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3124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heiu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dium hydroxide (ly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7339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onic solid that dissociates into sodium ions and hydroxide ions in aqueous 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4495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OH(s) ----&gt;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419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769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tremely caustic, therefore used to clean/unclog d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 1A elements react with water to produ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that are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144792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(s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NaOH 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828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sted-Lowry Theory on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 idea of what acids and bas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590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 are a hydrogen-ion donor while bases are a hydrogen-ion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352680"/>
            <a:ext cx="8076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new idea includes compounds not in the Arrhenius theory as acids or bases. EX: ammoni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114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 ammonia now qualifies as a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4572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it is highly soluble and when it reacts with water it acts like a base because it accepts a hydrogen ion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(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38120" y="1219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1371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monia             water            ammonium ion      hydroxide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75248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-ion acceptor     H-ion donor                                    makes it 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0574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causes the hydroxide-ion concentration to be greater than it is p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743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jugate Acid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3526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(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65724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733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ACID                  CON. ACID       CON.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acid: particle formed when a base gains a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724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base: particle that remains when an acid has donated a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njugate acids and bases are always paired with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or an acid, respect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37160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 molecule which gains a hydrogen ion becomes a positively charged hydronium ion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09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times water can accept a hydrogen ion or other times it can donate.  When a substance can do both = amphot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971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352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guy states that an acid accepts a pair of electrons during a reaction, while a base donates a pair of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4038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acid is a substance which can accept a pair of electrons to form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876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base is a substance that can donate a pair of electrons to form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1%20001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2730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96252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 (Bronsted-Lowry acid) can accept a pair of electrons in forming a bond, becoming a Lewis acid.  A Bronsted-Lowry base (substance that accepts a hydrogen ion) must have a pair of electrons available for it to be a Lewis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Bas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828800"/>
          <a:ext cx="7086240" cy="286236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19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hen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produ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- produc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nsted-Low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do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+ ac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w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 pair ac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 pair do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02:42Z</dcterms:created>
  <dc:creator>Farwell Area Schools</dc:creator>
  <dc:description/>
  <dc:language>en-US</dc:language>
  <cp:lastModifiedBy>Farwell Area Schools</cp:lastModifiedBy>
  <dcterms:modified xsi:type="dcterms:W3CDTF">2009-05-06T13:45:37Z</dcterms:modified>
  <cp:revision>21</cp:revision>
  <dc:subject/>
  <dc:title>Note Guide 10-1 </dc:title>
</cp:coreProperties>
</file>